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B9B-E477-4C3D-8CC8-31A49A09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44B-A857-45F9-8F96-AF70340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D4F-180A-4C2C-B0BD-603644CD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FF8-8CED-4EB2-A884-EE3B4495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FA5-FB86-4CC0-9B4A-2631D511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C04-875A-4E6C-A403-D62589D7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7C6-6F5E-4D10-B057-0FF62B1E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7F0-98E6-46C2-B035-C2CD0442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724-1FCF-4A17-84E5-66A445E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D50-AC08-4779-8D64-8F90B8F5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DBE-9F2E-4CC1-A282-9214BF5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84B-CBD6-4B4B-A9C1-54678672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742-38FD-4AD2-91FA-43B20ABCF2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iosintesis de carbohidr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258920" y="2133720"/>
            <a:ext cx="388944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16000" y="3645000"/>
            <a:ext cx="4464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- Glucogeno-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8360" y="4869000"/>
            <a:ext cx="7696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ff"/>
                </a:solidFill>
                <a:latin typeface="Times New Roman"/>
              </a:rPr>
              <a:t>Los procesos de biosíntesis no son nunca la simple inversion de las correspondientes rutas catabó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gulacion de la Glucó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71640" y="1700280"/>
            <a:ext cx="698508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Hay una regulación recíproca entre la glucógenogenesis y la glucógeno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3962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562720" y="4038480"/>
            <a:ext cx="2895480" cy="101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ó Menos 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1600200" y="3733920"/>
            <a:ext cx="2971800" cy="990360"/>
            <a:chOff x="1600200" y="3733920"/>
            <a:chExt cx="2971800" cy="990360"/>
          </a:xfrm>
        </p:grpSpPr>
        <p:sp>
          <p:nvSpPr>
            <p:cNvPr id="111" name="Text Box 8"/>
            <p:cNvSpPr/>
            <p:nvPr/>
          </p:nvSpPr>
          <p:spPr>
            <a:xfrm>
              <a:off x="1600200" y="3809880"/>
              <a:ext cx="1600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Glucogeno sintas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3429000" y="380988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3429000" y="4343400"/>
              <a:ext cx="7621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4191120" y="373392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4191120" y="4267080"/>
              <a:ext cx="3808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320040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>
              <a:off x="320040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1143000" y="5334120"/>
            <a:ext cx="3124080" cy="990360"/>
            <a:chOff x="1143000" y="5334120"/>
            <a:chExt cx="3124080" cy="990360"/>
          </a:xfrm>
        </p:grpSpPr>
        <p:grpSp>
          <p:nvGrpSpPr>
            <p:cNvPr id="119" name="Group 16"/>
            <p:cNvGrpSpPr/>
            <p:nvPr/>
          </p:nvGrpSpPr>
          <p:grpSpPr>
            <a:xfrm>
              <a:off x="1143000" y="5334120"/>
              <a:ext cx="3124080" cy="990360"/>
              <a:chOff x="1143000" y="5334120"/>
              <a:chExt cx="3124080" cy="990360"/>
            </a:xfrm>
          </p:grpSpPr>
          <p:sp>
            <p:nvSpPr>
              <p:cNvPr id="120" name="AutoShape 17"/>
              <p:cNvSpPr/>
              <p:nvPr/>
            </p:nvSpPr>
            <p:spPr>
              <a:xfrm>
                <a:off x="1143000" y="5334120"/>
                <a:ext cx="2209680" cy="990360"/>
              </a:xfrm>
              <a:prstGeom prst="parallelogram">
                <a:avLst>
                  <a:gd name="adj" fmla="val 5578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8"/>
              <p:cNvSpPr/>
              <p:nvPr/>
            </p:nvSpPr>
            <p:spPr>
              <a:xfrm>
                <a:off x="1523880" y="533412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400" spc="-1" strike="noStrike">
                    <a:solidFill>
                      <a:srgbClr val="000000"/>
                    </a:solidFill>
                    <a:latin typeface="Times New Roman"/>
                  </a:rPr>
                  <a:t>Glucogeno sintasa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3504960" y="5334120"/>
                <a:ext cx="76212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3200400" y="5867280"/>
                <a:ext cx="761760" cy="304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CH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1"/>
              <p:cNvSpPr/>
              <p:nvPr/>
            </p:nvSpPr>
            <p:spPr>
              <a:xfrm>
                <a:off x="3276360" y="5486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22"/>
            <p:cNvSpPr/>
            <p:nvPr/>
          </p:nvSpPr>
          <p:spPr>
            <a:xfrm>
              <a:off x="2971800" y="6019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23"/>
          <p:cNvSpPr/>
          <p:nvPr/>
        </p:nvSpPr>
        <p:spPr>
          <a:xfrm>
            <a:off x="4419720" y="5486400"/>
            <a:ext cx="1143000" cy="38088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4800600" y="3886200"/>
            <a:ext cx="609480" cy="3049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295280" y="3581280"/>
            <a:ext cx="20163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3657600" y="2852640"/>
            <a:ext cx="4946760" cy="1711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(+)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-)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Adrenalina ó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lucag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6868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Hormonal de la    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219320" y="5410080"/>
            <a:ext cx="20160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4038480" y="4681440"/>
            <a:ext cx="4494240" cy="17114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(+) Glucosa-6-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Ca</a:t>
            </a:r>
            <a:r>
              <a:rPr b="1" lang="es-MX" sz="2400" spc="-1" strike="noStrike" baseline="30000">
                <a:solidFill>
                  <a:srgbClr val="333399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 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0" y="2133720"/>
            <a:ext cx="46483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780000" y="1413000"/>
            <a:ext cx="1825560" cy="439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708360" y="2205000"/>
            <a:ext cx="2333520" cy="503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648320" y="1871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4800600" y="184464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676760" y="27417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859280" y="2741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2916360" y="3213000"/>
            <a:ext cx="3932280" cy="2651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76720" y="6021360"/>
            <a:ext cx="30970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780000" y="2997360"/>
            <a:ext cx="2430360" cy="43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SA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979640" y="3429000"/>
            <a:ext cx="1347840" cy="36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2"/>
          <p:cNvSpPr/>
          <p:nvPr/>
        </p:nvSpPr>
        <p:spPr>
          <a:xfrm>
            <a:off x="3419640" y="3213000"/>
            <a:ext cx="366480" cy="397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3"/>
          <p:cNvSpPr/>
          <p:nvPr/>
        </p:nvSpPr>
        <p:spPr>
          <a:xfrm>
            <a:off x="2489040" y="4272120"/>
            <a:ext cx="454320" cy="626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4"/>
          <p:cNvSpPr/>
          <p:nvPr/>
        </p:nvSpPr>
        <p:spPr>
          <a:xfrm flipV="1" rot="19738800">
            <a:off x="6548040" y="5227560"/>
            <a:ext cx="92160" cy="2746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022560" y="504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2268360" y="2924280"/>
            <a:ext cx="1194120" cy="34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48000" y="3429000"/>
            <a:ext cx="232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UDPG-pirofosforil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916360" y="4292640"/>
            <a:ext cx="2236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Glucógeno sintetasa</a:t>
            </a:r>
            <a:r>
              <a:rPr b="1" i="1" lang="es-E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853320" y="4608360"/>
            <a:ext cx="2290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Glucógeno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fosforilasa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6172200" y="5543640"/>
            <a:ext cx="631800" cy="406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0" y="4076640"/>
            <a:ext cx="2700360" cy="50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1692360" y="5013360"/>
            <a:ext cx="230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Enzima ram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5"/>
          <p:cNvSpPr/>
          <p:nvPr/>
        </p:nvSpPr>
        <p:spPr>
          <a:xfrm>
            <a:off x="6227640" y="3068640"/>
            <a:ext cx="444600" cy="5335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300720" y="2637000"/>
            <a:ext cx="2843280" cy="365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LUCOGENO 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880" y="115560"/>
            <a:ext cx="77724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biosíntesis y degradación están coordinadamente reg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380880" y="1828800"/>
            <a:ext cx="2319480" cy="79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6553080" y="1676520"/>
            <a:ext cx="2340000" cy="79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116000" y="4653000"/>
            <a:ext cx="1368360" cy="419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656400" y="3456000"/>
            <a:ext cx="248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zima desramificante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89000" y="714240"/>
            <a:ext cx="8793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85640" y="500040"/>
            <a:ext cx="80154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675640" cy="551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LUGAR PRINCIPALMENTE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ET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C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PROCESO QUE 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CCIONES DE LA VIA GLUCONEOGEN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TIENE TRES REACCIONES DIFERENTES A LA 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S TRES REACCIONES IRREVERSIBLES SON REVERTIDAS POR TRES ENZIMA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OSFOENOLPIRUVATO CARBOXI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FRUCTOSA-1,6-BIS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87200" y="1074600"/>
            <a:ext cx="471168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74027"/>
                </a:solidFill>
                <a:latin typeface="Arial"/>
                <a:ea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440" y="3738600"/>
            <a:ext cx="758736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 CARBOXI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067280" y="2205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4140360" y="249408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73080" y="4797360"/>
            <a:ext cx="831528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ALACETA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FOSFOENOLPIRUVATO + 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79280" y="2852640"/>
            <a:ext cx="2664000" cy="368280"/>
          </a:xfrm>
          <a:prstGeom prst="rect">
            <a:avLst/>
          </a:prstGeom>
          <a:solidFill>
            <a:srgbClr val="f5e1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(+) 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716360" y="5805360"/>
            <a:ext cx="41036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SOENZIMAS CITOSOLICA Y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OSINTESIS DE FOSFOENOL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1116000" y="5553000"/>
            <a:ext cx="1484280" cy="53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2465280" y="5084640"/>
            <a:ext cx="1314720" cy="540000"/>
          </a:xfrm>
          <a:custGeom>
            <a:avLst/>
            <a:gdLst>
              <a:gd name="textAreaLeft" fmla="*/ 230040 w 1314720"/>
              <a:gd name="textAreaRight" fmla="*/ 953280 w 1314720"/>
              <a:gd name="textAreaTop" fmla="*/ 72360 h 540000"/>
              <a:gd name="textAreaBottom" fmla="*/ 467640 h 5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3132000" y="5624640"/>
            <a:ext cx="1484280" cy="52992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556000" y="5084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39640" y="2349360"/>
            <a:ext cx="8229600" cy="266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3132000" y="3357720"/>
            <a:ext cx="289080" cy="1079280"/>
          </a:xfrm>
          <a:custGeom>
            <a:avLst/>
            <a:gdLst>
              <a:gd name="textAreaLeft" fmla="*/ 38520 w 289080"/>
              <a:gd name="textAreaRight" fmla="*/ 250560 w 2890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RUCTOSA-1,6-BISFOSFATAS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2"/>
          <p:cNvSpPr/>
          <p:nvPr/>
        </p:nvSpPr>
        <p:spPr>
          <a:xfrm>
            <a:off x="0" y="2924280"/>
            <a:ext cx="4572000" cy="28098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268360" y="4653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39640" y="6021360"/>
            <a:ext cx="16574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11280" y="4437000"/>
            <a:ext cx="14396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429000"/>
            <a:ext cx="19461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843280" y="3573360"/>
            <a:ext cx="115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050920" y="1989000"/>
            <a:ext cx="129708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140360" y="2276640"/>
            <a:ext cx="1944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1116000" y="5372280"/>
            <a:ext cx="35892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916360" y="2924280"/>
            <a:ext cx="358560" cy="2887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1187280" y="566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1413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1258920" y="4941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1116000" y="4005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 rot="5400000">
            <a:off x="2447640" y="3608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3059280" y="3213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3059280" y="24922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9"/>
          <p:cNvSpPr/>
          <p:nvPr/>
        </p:nvSpPr>
        <p:spPr>
          <a:xfrm rot="5400000">
            <a:off x="3636000" y="2061000"/>
            <a:ext cx="142920" cy="719280"/>
          </a:xfrm>
          <a:prstGeom prst="upArrow">
            <a:avLst>
              <a:gd name="adj1" fmla="val 50000"/>
              <a:gd name="adj2" fmla="val 12581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6300720" y="2349360"/>
            <a:ext cx="302436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osfoenol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10637400">
            <a:off x="7308360" y="2781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 rot="10637400">
            <a:off x="7451280" y="357300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5292720" y="51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 rot="10637400">
            <a:off x="7524000" y="4436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 rot="10637400">
            <a:off x="7451280" y="537336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6948360" y="3141720"/>
            <a:ext cx="115272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7093080" y="3933720"/>
            <a:ext cx="1152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-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7020000" y="4797360"/>
            <a:ext cx="165564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,3-BP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7093080" y="5877000"/>
            <a:ext cx="151128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4859280" y="6165720"/>
            <a:ext cx="115272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D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4500720" y="5589720"/>
            <a:ext cx="19443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1,6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4603680" y="4653000"/>
            <a:ext cx="148104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FR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4500720" y="3716280"/>
            <a:ext cx="148104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5"/>
          <p:cNvSpPr/>
          <p:nvPr/>
        </p:nvSpPr>
        <p:spPr>
          <a:xfrm>
            <a:off x="4284720" y="2924280"/>
            <a:ext cx="1942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6"/>
          <p:cNvSpPr/>
          <p:nvPr/>
        </p:nvSpPr>
        <p:spPr>
          <a:xfrm rot="19270200">
            <a:off x="6084720" y="5877000"/>
            <a:ext cx="997200" cy="5778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7"/>
          <p:cNvSpPr/>
          <p:nvPr/>
        </p:nvSpPr>
        <p:spPr>
          <a:xfrm>
            <a:off x="5292720" y="4221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8"/>
          <p:cNvSpPr/>
          <p:nvPr/>
        </p:nvSpPr>
        <p:spPr>
          <a:xfrm>
            <a:off x="5219640" y="335772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9"/>
          <p:cNvSpPr/>
          <p:nvPr/>
        </p:nvSpPr>
        <p:spPr>
          <a:xfrm rot="10800000">
            <a:off x="5508360" y="422064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0"/>
          <p:cNvSpPr/>
          <p:nvPr/>
        </p:nvSpPr>
        <p:spPr>
          <a:xfrm>
            <a:off x="7524720" y="2781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1"/>
          <p:cNvSpPr/>
          <p:nvPr/>
        </p:nvSpPr>
        <p:spPr>
          <a:xfrm>
            <a:off x="7667640" y="357336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2"/>
          <p:cNvSpPr/>
          <p:nvPr/>
        </p:nvSpPr>
        <p:spPr>
          <a:xfrm>
            <a:off x="7740720" y="443700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3"/>
          <p:cNvSpPr/>
          <p:nvPr/>
        </p:nvSpPr>
        <p:spPr>
          <a:xfrm>
            <a:off x="7669080" y="537372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4"/>
          <p:cNvSpPr/>
          <p:nvPr/>
        </p:nvSpPr>
        <p:spPr>
          <a:xfrm>
            <a:off x="8280360" y="4076640"/>
            <a:ext cx="8636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5"/>
          <p:cNvSpPr/>
          <p:nvPr/>
        </p:nvSpPr>
        <p:spPr>
          <a:xfrm>
            <a:off x="1258920" y="3716280"/>
            <a:ext cx="865080" cy="936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6"/>
          <p:cNvSpPr/>
          <p:nvPr/>
        </p:nvSpPr>
        <p:spPr>
          <a:xfrm>
            <a:off x="2050920" y="4005360"/>
            <a:ext cx="6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7"/>
          <p:cNvSpPr/>
          <p:nvPr/>
        </p:nvSpPr>
        <p:spPr>
          <a:xfrm>
            <a:off x="8748720" y="4653000"/>
            <a:ext cx="4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8"/>
          <p:cNvSpPr/>
          <p:nvPr/>
        </p:nvSpPr>
        <p:spPr>
          <a:xfrm>
            <a:off x="5796000" y="1557360"/>
            <a:ext cx="1081080" cy="861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9"/>
          <p:cNvSpPr/>
          <p:nvPr/>
        </p:nvSpPr>
        <p:spPr>
          <a:xfrm>
            <a:off x="6877080" y="1628640"/>
            <a:ext cx="719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0"/>
          <p:cNvSpPr/>
          <p:nvPr/>
        </p:nvSpPr>
        <p:spPr>
          <a:xfrm>
            <a:off x="7991640" y="5229360"/>
            <a:ext cx="1152360" cy="647640"/>
          </a:xfrm>
          <a:custGeom>
            <a:avLst/>
            <a:gdLst>
              <a:gd name="textAreaLeft" fmla="*/ 0 w 1152360"/>
              <a:gd name="textAreaRight" fmla="*/ 1152360 w 115236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1"/>
          <p:cNvSpPr/>
          <p:nvPr/>
        </p:nvSpPr>
        <p:spPr>
          <a:xfrm>
            <a:off x="2124000" y="3357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TAPAS DE LA GLUCONE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"/>
          <p:cNvSpPr/>
          <p:nvPr/>
        </p:nvSpPr>
        <p:spPr>
          <a:xfrm rot="5842200">
            <a:off x="6192000" y="2384280"/>
            <a:ext cx="144720" cy="36036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4952880" y="4653000"/>
            <a:ext cx="4191120" cy="167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38080" y="3276720"/>
            <a:ext cx="6705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Proceso activo después de una ingesta rica en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332000" y="1700280"/>
            <a:ext cx="691344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Tiene lugar principalmente en los anim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971640" y="4365720"/>
            <a:ext cx="2743200" cy="1991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ECURSO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COS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CTATO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AL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095880" y="487692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        Glu-6-P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lu-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3809880" y="4952880"/>
            <a:ext cx="914400" cy="381240"/>
          </a:xfrm>
          <a:custGeom>
            <a:avLst/>
            <a:gdLst>
              <a:gd name="textAreaLeft" fmla="*/ 159840 w 914400"/>
              <a:gd name="textAreaRight" fmla="*/ 663120 w 914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759000">
            <a:off x="4342680" y="55623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itoplasm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6948360" y="50133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6553080" y="56386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BIOSINTESIS DE GLUCOGENO GLUCOGENO-GEN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 molécula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38040" y="1628640"/>
            <a:ext cx="8697960" cy="452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GLUCOSA-6-FOSFATASA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(Hígado y riñ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ACCION 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STA ENZIMA NO SE ENCUENTRA EN MU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5506920" y="292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A PARTIR DE GLUCOSA-6-FOSF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CIÓN DE LA 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mon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lost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00000" y="2637000"/>
            <a:ext cx="2016360" cy="5205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3564000" y="1628640"/>
            <a:ext cx="4481280" cy="1914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nivel de la FBF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611280" y="5157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3780000" y="400536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+)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611280" y="4149720"/>
            <a:ext cx="252072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iruvato 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3924360" y="5157720"/>
            <a:ext cx="3384360" cy="10461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(-) AMP y A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LUCOGEN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biosíntesis de glucógeno está coordinada recíprocamente con la degradació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una vía importante en hígado y mús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DP-glucosa es el sustrato de la enzim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lucógeno sin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inicia con glucosa-6-fosfato que se convierte en glucosa-1-fosfato por acción de un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ut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9440" y="333360"/>
            <a:ext cx="89265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Enzimas que intervienen en el proceso de sintesis de glucógeno o glucógeno-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11280" y="2133720"/>
            <a:ext cx="7162560" cy="280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Fosfoglucomu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00ff"/>
                </a:solidFill>
                <a:latin typeface="Arial"/>
              </a:rPr>
              <a:t>Enzima ramific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380880"/>
            <a:ext cx="8458200" cy="132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Fosfoglucomuta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6-P                              GLU-1-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3048120" y="1219320"/>
            <a:ext cx="1981080" cy="228600"/>
          </a:xfrm>
          <a:prstGeom prst="leftRightArrow">
            <a:avLst>
              <a:gd name="adj1" fmla="val 50000"/>
              <a:gd name="adj2" fmla="val 17252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7200" y="2209680"/>
            <a:ext cx="845820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UDP-glucosa pirofosfori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-1-P   + UTP                   UDP GLU + 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3809880" y="2971800"/>
            <a:ext cx="1981440" cy="228600"/>
          </a:xfrm>
          <a:prstGeom prst="leftRightArrow">
            <a:avLst>
              <a:gd name="adj1" fmla="val 50000"/>
              <a:gd name="adj2" fmla="val 1725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3733920"/>
            <a:ext cx="84582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Glucogeno sintasa ó sinte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UDP GLU + Glucogeno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Glucogeno (n+ 1) +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2666880" y="4724280"/>
            <a:ext cx="914400" cy="83844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 rot="20625000">
            <a:off x="5650560" y="4652640"/>
            <a:ext cx="1584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ón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5280" y="1197000"/>
            <a:ext cx="8458200" cy="253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333399"/>
                </a:solidFill>
                <a:latin typeface="Arial"/>
              </a:rPr>
              <a:t>Enzima ramificante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Amil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4       1,6) glucosil transfer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4437000"/>
            <a:ext cx="8534160" cy="10688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Forma enlaces glicosídico </a:t>
            </a:r>
            <a:r>
              <a:rPr b="0" i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AR" sz="3200" spc="-1" strike="noStrike">
                <a:solidFill>
                  <a:srgbClr val="000000"/>
                </a:solidFill>
                <a:latin typeface="Arial"/>
              </a:rPr>
              <a:t>(1,6) para las ramificaciones de la molécula de gluc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700360" y="24922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ORMACION DE UDP-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447920"/>
            <a:ext cx="4114800" cy="100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UIS LELOIR (1906-1988), Premio Nobel en Química Año 1970, discípulo de Hous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523880"/>
            <a:ext cx="266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ó el papel de la UDP.-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0" y="2590920"/>
            <a:ext cx="5222880" cy="3884400"/>
            <a:chOff x="0" y="2590920"/>
            <a:chExt cx="5222880" cy="3884400"/>
          </a:xfrm>
        </p:grpSpPr>
        <p:pic>
          <p:nvPicPr>
            <p:cNvPr id="73" name="Picture 6" descr="udpglu"/>
            <p:cNvPicPr/>
            <p:nvPr/>
          </p:nvPicPr>
          <p:blipFill>
            <a:blip r:embed="rId2"/>
            <a:srcRect l="0" t="-2310" r="0" b="43307"/>
            <a:stretch/>
          </p:blipFill>
          <p:spPr>
            <a:xfrm>
              <a:off x="228600" y="2590920"/>
              <a:ext cx="499428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/>
            <p:cNvSpPr/>
            <p:nvPr/>
          </p:nvSpPr>
          <p:spPr>
            <a:xfrm>
              <a:off x="152280" y="571500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1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0" y="4419720"/>
              <a:ext cx="190512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533520" y="2666880"/>
              <a:ext cx="1295280" cy="368280"/>
            </a:xfrm>
            <a:prstGeom prst="rect">
              <a:avLst/>
            </a:prstGeom>
            <a:solidFill>
              <a:srgbClr val="b7f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2590920" y="3581280"/>
              <a:ext cx="152388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2286000" y="5181480"/>
              <a:ext cx="1828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3300"/>
                  </a:solidFill>
                  <a:latin typeface="Times New Roman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4149720" y="3200400"/>
            <a:ext cx="4994280" cy="3340080"/>
            <a:chOff x="4149720" y="3200400"/>
            <a:chExt cx="4994280" cy="3340080"/>
          </a:xfrm>
        </p:grpSpPr>
        <p:pic>
          <p:nvPicPr>
            <p:cNvPr id="80" name="Picture 13" descr="udpglu"/>
            <p:cNvPicPr/>
            <p:nvPr/>
          </p:nvPicPr>
          <p:blipFill>
            <a:blip r:embed="rId3"/>
            <a:srcRect l="32045" t="41673" r="19140" b="43287"/>
            <a:stretch/>
          </p:blipFill>
          <p:spPr>
            <a:xfrm>
              <a:off x="5562720" y="3200400"/>
              <a:ext cx="2438280" cy="99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14"/>
            <p:cNvGrpSpPr/>
            <p:nvPr/>
          </p:nvGrpSpPr>
          <p:grpSpPr>
            <a:xfrm>
              <a:off x="4149720" y="4343400"/>
              <a:ext cx="4994280" cy="2197080"/>
              <a:chOff x="4149720" y="4343400"/>
              <a:chExt cx="4994280" cy="2197080"/>
            </a:xfrm>
          </p:grpSpPr>
          <p:pic>
            <p:nvPicPr>
              <p:cNvPr id="82" name="Picture 15" descr="udpglu"/>
              <p:cNvPicPr/>
              <p:nvPr/>
            </p:nvPicPr>
            <p:blipFill>
              <a:blip r:embed="rId4"/>
              <a:srcRect l="0" t="56706" r="0" b="20125"/>
              <a:stretch/>
            </p:blipFill>
            <p:spPr>
              <a:xfrm>
                <a:off x="4149720" y="4494240"/>
                <a:ext cx="499428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16"/>
              <p:cNvSpPr/>
              <p:nvPr/>
            </p:nvSpPr>
            <p:spPr>
              <a:xfrm>
                <a:off x="5410080" y="6172200"/>
                <a:ext cx="1905120" cy="368280"/>
              </a:xfrm>
              <a:prstGeom prst="rect">
                <a:avLst/>
              </a:prstGeom>
              <a:solidFill>
                <a:srgbClr val="b7f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Times New Roman"/>
                  </a:rPr>
                  <a:t>UDP-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7"/>
              <p:cNvSpPr/>
              <p:nvPr/>
            </p:nvSpPr>
            <p:spPr>
              <a:xfrm>
                <a:off x="6553080" y="4648320"/>
                <a:ext cx="251460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ff3300"/>
                    </a:solidFill>
                    <a:latin typeface="Times New Roman"/>
                  </a:rPr>
                  <a:t>UDP-Glu fosforilas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18"/>
              <p:cNvSpPr/>
              <p:nvPr/>
            </p:nvSpPr>
            <p:spPr>
              <a:xfrm>
                <a:off x="6553080" y="4343400"/>
                <a:ext cx="76212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9"/>
              <p:cNvSpPr/>
              <p:nvPr/>
            </p:nvSpPr>
            <p:spPr>
              <a:xfrm>
                <a:off x="6705720" y="5715000"/>
                <a:ext cx="761760" cy="3988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20"/>
              <p:cNvSpPr/>
              <p:nvPr/>
            </p:nvSpPr>
            <p:spPr>
              <a:xfrm>
                <a:off x="5029200" y="5181480"/>
                <a:ext cx="685800" cy="457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fi16p9"/>
          <p:cNvPicPr/>
          <p:nvPr/>
        </p:nvPicPr>
        <p:blipFill>
          <a:blip r:embed="rId1"/>
          <a:stretch/>
        </p:blipFill>
        <p:spPr>
          <a:xfrm>
            <a:off x="1052640" y="2205000"/>
            <a:ext cx="6365880" cy="4160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509840" y="3500280"/>
            <a:ext cx="1752480" cy="825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DP-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71800" y="3514680"/>
            <a:ext cx="4876920" cy="3988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lucógeno (extremo no redu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938840" y="4491000"/>
            <a:ext cx="685800" cy="368280"/>
          </a:xfrm>
          <a:prstGeom prst="rect">
            <a:avLst/>
          </a:prstGeom>
          <a:solidFill>
            <a:srgbClr val="f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853240" y="4110120"/>
            <a:ext cx="159840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Glucógen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5862600"/>
            <a:ext cx="19051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uevo extremo n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 DE LA GLUCOGENO SIN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057400" y="35812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162920" y="3168720"/>
            <a:ext cx="3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429000" y="289548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838080" y="2057400"/>
            <a:ext cx="14479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2362320" y="2514600"/>
            <a:ext cx="1904760" cy="914400"/>
          </a:xfrm>
          <a:prstGeom prst="rect">
            <a:avLst/>
          </a:prstGeom>
          <a:solidFill>
            <a:srgbClr val="ffffd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00600" y="4114800"/>
            <a:ext cx="76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ri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sto Energético en la Glucógeno-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ucosa-6-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ación de glucos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1 UT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UDP  +  ATP =   UTP  +  A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drólisis PP  a  2 Pi (se rompe una unión de alta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la unión de una molécula de glucosa se gastan 2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419640" y="2133720"/>
            <a:ext cx="180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4356000" y="2924280"/>
            <a:ext cx="1224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3:15:38Z</dcterms:created>
  <dc:creator>Usuario</dc:creator>
  <dc:description/>
  <dc:language>en-US</dc:language>
  <cp:lastModifiedBy>Usuario</cp:lastModifiedBy>
  <dcterms:modified xsi:type="dcterms:W3CDTF">2012-04-13T23:13:58Z</dcterms:modified>
  <cp:revision>31</cp:revision>
  <dc:subject/>
  <dc:title>Diapositiva 1</dc:title>
</cp:coreProperties>
</file>